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2EDD-761B-4F04-813E-FB6FF8874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24CE-7B03-473C-ACFC-1FFD95A49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E1EFC-D2BF-48C6-A8BD-3F8C801DC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0B756-4CA9-46BA-A850-7EF952EA7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AC835-BE17-4DA7-A318-4C4796833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B0AF2-7863-4653-9AC1-7E3DB156F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DAC7-983A-43AE-8478-0F6EC6F274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157A-7C87-49D0-9F92-0ACBD7B719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3E28-9F8A-495C-973C-200410AB8B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1C7B-6201-4A13-8972-2C32B6851D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0EE1-3AAC-4404-93F4-1DD8F14578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9A39-9268-4E8B-9796-556B6B617D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D32F-6DA4-4EBA-8838-79323203CF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42B7D-68CC-467C-9D4A-011AD6F1F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1285-B886-4EB0-8625-3B4C856F2B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4C2F-4510-402E-B8F8-798E642BA3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54F6-05C7-46D5-80BB-318A30E694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00EF-C844-4A3C-B647-A09A1A4569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7D11-C2AD-4006-9F1E-A79E173264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DFB3C-E601-4D04-BCF9-ACBD665AA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5C17A-45B0-4906-B7C4-74748A3027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1B378-C06F-44F7-A6F5-D4BF649E7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7FE2A-B3F7-4215-B84C-FCED8320D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E6087-3C14-480C-AFB7-1D5B8655C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454EF-5BB8-43C4-BDD3-616F557DF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F9E66-1FC4-4EB2-B616-56066B93C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mprovement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93BF-61E0-4F94-AB60-0563B9B7E6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6AB0-D30B-45C3-BA10-953004AD5D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1"/>
          <p:cNvSpPr/>
          <p:nvPr/>
        </p:nvSpPr>
        <p:spPr>
          <a:xfrm>
            <a:off x="457200" y="642924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E3FC-296A-4274-9274-9B0AF6A8A6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3124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062000"/>
            <a:ext cx="845820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«В вашей лаборатории были выявлены проблемы с пробами, поступающими в лабораторию из определенной поликлиники. Некоторые пробы транспортировались в лабораторию явно с задержкой, а ряд проб был собран в неподходящие контейнеры. Эти проблемы приводили к задержкам в выполнении анализов и к отказам в приеме проб. Для исправления ситуации был проведен ряд улучшений в ведении записей и на месте сбора проб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90720" y="48769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2-08-04T06:45:48Z</dcterms:modified>
  <cp:revision>66</cp:revision>
  <dc:subject/>
  <dc:title>Slide 1</dc:title>
</cp:coreProperties>
</file>